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714-ABDF-4C11-A93F-0D006E38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866-D346-4DAB-83D0-81965019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1513-9F33-45D9-8390-A395CC43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7A4B-7E87-43D3-A8D6-2D1DF2FD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F54-1B02-4D48-BD0E-2466EE2D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9FC1-68D4-47EE-B60D-93057016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DC19-8836-4EAF-B1D8-04D04430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6416-F037-483B-A69C-C4DFD2DE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EE3-1D5C-4BEF-8072-5E5A4A9F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9E9F-AFCB-44E1-A1EF-7F1BB09E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DCE-0ABE-4254-A13A-24E454F1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387-FBD7-4E6F-8906-2B00D691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B6F0-BA5E-46DB-A722-38446D4F4CE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hyperlink" Target="mailto:andersoncd@feam.br" TargetMode="External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entury Gothic"/>
              </a:rPr>
              <a:t>Data: 18.02.08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333360"/>
            <a:ext cx="83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Century Gothic"/>
              </a:rPr>
              <a:t>ORDEM DE SERVIÇO Nº. 03, DE 18 DE FEVEREIRO 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0" y="270828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0828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0" y="1557360"/>
            <a:ext cx="777564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Art. 3º sem alteraçõ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§ únic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: Os processos que não atendiam às disposições anteriores eram devolvidos para a devida adequaçã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Os processos que não atenderem às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disposições anteriores </a:t>
            </a:r>
            <a:r>
              <a:rPr b="1" lang="pt-BR" sz="2500" spc="-1" strike="noStrike" u="sng">
                <a:solidFill>
                  <a:srgbClr val="0000ff"/>
                </a:solidFill>
                <a:uFillTx/>
                <a:latin typeface="Arial"/>
              </a:rPr>
              <a:t>não serão recebid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ela Superintendência de Recursos logísiticos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e Manutençã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no art. 3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81080" y="1557360"/>
            <a:ext cx="842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: Tratando-se de processo admistrativo para realização de licitação, o pedido de abertura do processo de licitação deve ser acompanhado de autorização da autoridade competen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formulário de solicitação mensal de 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recurs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será utilizado como 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pedido de 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abertura do processo de licitação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, desde que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ssinado pelo ordenador de despesa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responsável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ela açã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no art. 4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0" y="1614600"/>
            <a:ext cx="831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Quem certificava a existência de recursos orçamentários e financeiros era Coordenadoria de Planejamento e Orç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m vai certificar a existência 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rsos orçamentários e financeiros é 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erintendência de Planejamento 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rnização Institucional, certificando a font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despesa no formulário de solicitaçã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nsal 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rsos. (somente após est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rtificação 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será remetido à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erintendência 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ros logísticos 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utençã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no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§1º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1614600"/>
            <a:ext cx="83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 processo era remetido à CPL para elaboração de Ed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 deverá ser remetido à COGES pa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ntagem do processo e pos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minhamento à CPL, que promoverá todos 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âmites legais que o processo requ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no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§2º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0" y="1614600"/>
            <a:ext cx="8317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§3º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nuta do edital deverá ser anexada ao processo (também por meio magnético) e encaminhada á Assessoria/Procuradoria Jurídica compentente para análise, aprovação e elaboração nota jurídica, conforme parágrafo único do art 38 da Lei 8.666/93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§4º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s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sos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processo conjunto – aquele que envolva mais de um órgão ou entidade do SISEMA – a ratificação poderá ser feita  por qualquer um dos procuradores dos órgãos ou entidades participantes do proc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Inclusões dos § 3º, 4º, 5º e 6º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0" y="1614600"/>
            <a:ext cx="8317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§5º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s casos de processo iniciado nas Regionais do IEF, IGAM e SUPRAM’s, a elaboração da minuta e aprovação deverão ser efetuados pela Assessoria Jurídica local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§6º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ovado o edital o mesmo será impresso pelas Procuradoria/Assessoria que o remeterá à CPL devidamente rubricadoe numerado. A CPL providenciará a publicação do Edital, sendo aberto o prazo constante na legislação para que as empresas apresentem propo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Inclusões dos § 3º, 4º, 5º e 6º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1614600"/>
            <a:ext cx="83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ubstituído pelo §3º do art 4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Nova redação: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lizada a licitação, 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contendo a ata, as propostas e 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cumentação exigida, conforme Anexos dest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dem de Serviços, será encaminhado à Assessoria/Procuradoria Jurí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Principais alterações no art 5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0" y="1614600"/>
            <a:ext cx="831708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§1º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Assessoria/Procuradoria Jurídica analisará a fase externa da licitação, observando se foram cumpridas todas as exigências legais e em seguida elaborará nota jurídica opinando favoravelmente ou não sobre a homologaçã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§2º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stando o procedimento em conformidade com a legislação, a nota jurídica será encaminhada à CPL acompanhada do termo de homologaçã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§3º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 termo de homologação será encaminhado à CPL que providenciará as assinaturas  da(s) autoridades(s) competente(s) e posterior publicaçã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Inclusão dos § 1º, 2º e , 3º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324000" y="1989000"/>
            <a:ext cx="7561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Arial"/>
              </a:rPr>
              <a:t>Com o novo fluxo e com as novas diretrizes do SISEMA, um novo arranjo, com novas definições teve que ser feita a partir do art 6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324000" y="1989000"/>
            <a:ext cx="777528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6600"/>
                </a:solidFill>
                <a:latin typeface="Arial"/>
              </a:rPr>
              <a:t>Art. 6º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po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 publicado o termo de homologação, caso seja necessário, a CPL deverá elaborar o contrato e encaminha-lo ao Núcleo de Apoio à Gestão de Suprimentos e Contratos para verificação dos dados relativos ao contratad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§ único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As assinaturas das partes serão colhidas pela CPL e encaminhadas ao Núcleo de Apoio à Gestão de Suprimentos e Contratos, que providenciará a publicação do contrato.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Art 6º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24000" y="1706400"/>
            <a:ext cx="82803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nde-se com a nova Ordem de Serviç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r as alterações e os impactos que a nova Sistemática de Solicitação Mensal de Recursos trará para o SISE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imizar os procedimentos internos no que tange à sistemática de compras, contratos e licit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imir todas as dúvidas inerentes aos procedimentos da nova sistemá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90792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bjetivos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324000" y="1700280"/>
            <a:ext cx="777528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</a:rPr>
              <a:t>Art. 7º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á de responsabilidade das regionais 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RAM’s 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lização e realização dos processo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citató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</a:rPr>
              <a:t>§1º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rocuradoria/Assessoria local será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onsáve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l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issão de nota jurídica quanto à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ovação d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nuta de edital,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à homologação 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aboração d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</a:rPr>
              <a:t>§2º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ós elaboração do contrato a 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uradoria/assessori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al deverá encaminhar 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ato para publicação no Núcleo d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oio à Gestão d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rimentos e Contr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Art 7º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324000" y="1413000"/>
            <a:ext cx="77752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6600"/>
                </a:solidFill>
                <a:latin typeface="Arial"/>
              </a:rPr>
              <a:t>Art. 8º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tando-se de Dispensa / Inexigibilidade de Licitação, observado o disposto no art. 3º e no art. 4º, o processo será devidamente instruído com Justificativa, Termo de Referência, Autorização do Ordenador e toda a documentação necessária, conforme estabelecido no Anexo I desta Ordem de Serviço e será encaminhado para a Procuradoria/Assessoria Jurídica que elaborará Nota sobre a viabilidade jurídica e adequação do pedido de contratação a uma das modalidades de dispensa/inexigibilidade de licitação rat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Art 8º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324000" y="1773360"/>
            <a:ext cx="835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§1º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tando em conformidade, a Procuradoria/Assessoria Jurídica elaborará a minuta do Ato de Dispensa/Inexigibilidade a ser assinado pela autoridade competente, nos termos das resoluções pertinentes e a minuta do Ato de Ratificação a ser assinado pelo Dirigente Máximo de cada órgão ou entidad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§2º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seguir, o processo, já instruído com a Nota Jurídica, as minutas dos atos e a minuta do Contrato (quando houver), serão encaminhados à Auditoria que providenciará o Atestado de Conformidad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§ 1º e 2º do Art 8º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79280" y="1773360"/>
            <a:ext cx="864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§3º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tando em conformidade com a legislação, o contrato será analisado/preenchido pela Procuradoria/Assessoria Jurídica, que encaminhará o processo à Superintendência de Recursos Logísticos e Manutenção, instruído com 3 (três) vias do contrato para colher as assinaturas. Após assinado, o Contrato, será publicado pela Procuradoria/Assessoria Jurídica. As vias do contrato deverão ser distribuídas da seguinte forma, 1 (uma) via deverá ser anexada ao processo, e 1 (uma) via para a parte contratad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§3º do Art 8º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324000" y="1413000"/>
            <a:ext cx="77752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6600"/>
                </a:solidFill>
                <a:latin typeface="Arial"/>
              </a:rPr>
              <a:t>Art. 9º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ublicado o contrato, o processo será encaminhado à Coordenadoria de Contratos ou Coordenadoria de Gestão de Suprimentos, para finalização de procedimento no SIAD. As regras de acompanhamento dos contratos de serviço serão estabelecidas entre as Coordenadorias de Contrato e Núcleo de Serviços pela Superintendência de Recursos Logísticos e Manutenção 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Art 9º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324000" y="1413000"/>
            <a:ext cx="777528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Art. 10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urante a execução contratual, verificada a necessidade de se promover qualquer alteração no contrato, desde que previstos em lei, as áreas afins deverão efetuar o pedido de alteração, devidamente justificado e autorizado pelo dirigente máximo do órgão ou entidad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Art 10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324000" y="1773360"/>
            <a:ext cx="83516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§1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caso da alteração contratual envolver disponibilidade financeira, o pedido de alteração deverá ser encaminhado à Superintendência de Modernização Institucional que certificará quanto à disponibilidade orçamentária para o aditamento em questão, e confirmará, por meio de ato formal, a aquiescência do responsável pela ação a que o contrato está vinculado. Caso o aditamento não envolva disponibilidade financeira, o pedido de alteração será encaminhado diretamente para a Coordenadoria de Gestão de Contrato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§2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 minuta do Termo Aditivo será elaborado em conjunto entre a Coordenadoria de Gestão de Contratos e o Núcleo de Apoio à Gestão de Suprimentos e Contra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§ 1º e 2º do Art 10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324000" y="1773360"/>
            <a:ext cx="83516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§3º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 Núcleo de Apoio à Gestão de Suprimentos e Contratos deverá encaminhar o termo aditivo à Procuradoria/Assessoria Jurídica respectiva para análise, e elaboração de Nota Juríd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§4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provada a minuta, a Coordenadoria de Gestão de Contratos colherá as assinaturas das partes e o Núcleo de Apoio à Gestão de Suprimentos e Contratos publicará o Termo Aditiv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§ 3º e 4º do Art 10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179280" y="177336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Arial"/>
              </a:rPr>
              <a:t>Art. 11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Às Assessorias/procuradorias Jurídicas deverão orientar quanto à interpretação dos atos normativos a  serem  cumpridos pelo órgão ou entidades conforme previsto na Lei Complementar 75/200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Art 1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79280" y="1773360"/>
            <a:ext cx="86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Arial"/>
              </a:rPr>
              <a:t>Art. 12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umeração dos contratos, será feita no Núcleo de Apoio à Gestão de Suprimentos e Contratos ou Procuradoria/Assessoria, ficando estabelecido que cada órgão terá sua numeração própria de acordo com a unidade orçamentária. O controle da numeração contratual será feito no Protocolo da Secretaria de cada órgão e seguirá os critérios  descritos na Ordem de Serviço cujo número se iniciará com a unidade orçamentá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Art 1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24000" y="155736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pedidos de contratação eram direcionados à Superintendência de Logística, com aprovação Diretoria ou Superintendências (maioria das vezes MEMO simp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pedidos serão direcionados à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perintendência de Modernização Instituc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i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mulário de solicitação mensal de recurs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m aprovação pelo responsável pela ação ou gerente do pro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90792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rincipais alterações art.1º :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16000" y="6237360"/>
          <a:ext cx="9144000" cy="85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6000" y="6237360"/>
                    <a:ext cx="914400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395280" y="2708280"/>
            <a:ext cx="8280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derson do Carmo Dini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perintendência de Recursos Logísticos e Manuten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andersoncd@feam.b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ne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1-3219.57.6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1-3219.57.6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00000" y="119700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ontatos para sugestões e dúv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24000" y="1573200"/>
            <a:ext cx="792000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Para aquisição bens de consumo e;ou permanentes era feita uma consulta formal prévia de disponibilidade de material à Superintendência de Logístic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tual: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ara aquisição bens de consum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e;ou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ermanen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Consulta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assa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ser feita na 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Coordenadoria de infra-Estrutura e Logística do SISEMA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90792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rincipais alterações 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1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79280" y="1844640"/>
            <a:ext cx="849636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Aquisição de bens permanentes eram autorizadas pelo Subsecretário de Inovação e Logístic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quisição de bens permanentes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fora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plano anual de suprimento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que foi elaborado em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neiro,somente será efetuada com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rização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Subsecretário de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Inovação e Logística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90792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rincipais alterações § 2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0" y="1557360"/>
            <a:ext cx="7775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O pedido era encaminhado à Coordenadoria de Gestão de Suprimen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 pedido deverá ser encaminhado à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perintendência de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Planejamento e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Modernização Institucional do SISEM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exando o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formulário de solicitação Mensal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e Recurso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3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0" y="1557360"/>
            <a:ext cx="7775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Não era previsto o formulário de solicitação mensal de recursos para os casos de Dispensa/Inexigibilidad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s processos que envolvam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pensa/Inexigibilidade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everão estar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previstos no formulário de solicitação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mensal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e recurs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4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0" y="1557360"/>
            <a:ext cx="77756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O pedido era instruído com autorização da autoridade competente, nos termos das resoluções pertinen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s responsáveis pela ação e/ou gerent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projeto serão designados por resolução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junta específica (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passarão a ser os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responsáveis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pela autorização do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pedido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5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0" y="1557360"/>
            <a:ext cx="7775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: (...) com autorização do respectivo Diret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(...) com cópia do formulário de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solicitação mensal de recursos (Neste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documento se consegue avaliar todo o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histórico do processo, inclusive se o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responsável pela ação já autorizou o pedido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Obs: Fica padronizado que as páginas dos 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processos serão numeradas de forma 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crescen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§ único, sem alteraçõ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art. 2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3:12:33Z</dcterms:created>
  <dc:creator>SIL</dc:creator>
  <dc:description/>
  <dc:language>en-US</dc:language>
  <cp:lastModifiedBy>semad</cp:lastModifiedBy>
  <dcterms:modified xsi:type="dcterms:W3CDTF">2008-02-18T16:02:30Z</dcterms:modified>
  <cp:revision>42</cp:revision>
  <dc:subject/>
  <dc:title>Slide 1</dc:title>
</cp:coreProperties>
</file>